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708-9A69-4A21-A223-B62958B6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644-5EBA-4D28-A9CD-42178EA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9E0-9E68-49EC-ADA4-137ABFB2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F3C-39FD-4F44-B770-2EE6289F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91FA-B63D-48B2-8330-87A16BDB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3BF-6520-42E5-9ECB-23D88329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C03-6A6E-4715-97FB-4E771541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67F-8A42-4131-B68B-11F0BB4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E3D-53B4-43C6-993D-E03F54BA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1C9-BB03-4508-BF22-35FADEF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6526-ED8A-4E65-802A-7E2ABA7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062-E8AB-43CB-8661-2CC48261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747-91F1-4EC9-A63C-104C0F64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899-5CBB-48B0-891C-3D68FD3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B9A4-2536-4F2F-AF5F-C356385B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018-6117-4EC1-92BA-A3741FE7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33B7-C944-4943-8F76-D6DD86CE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5F0-4B36-4A52-AF66-FE14DA7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1CC-D37D-4A97-A673-1C769A0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FCB-CD82-4506-A4B9-243A5A44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E91-3621-43D6-B493-60552571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5BB-05A3-4CC0-B80C-DA2E1F4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F19-8511-470F-9B6C-A55FA80A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097-4C60-41D8-A3FF-E406566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FD6-53D6-4D6E-871E-9A3A6943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D0B6-55FD-4364-9E54-E77E4495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510920"/>
            <a:ext cx="22590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r Tara Yada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2" descr="https://encrypted-tbn0.google.com/images?q=tbn:ANd9GcRwkgb75SyrGTh3bd9hTrkbgzhMt5m6Fc5lPF2ozbwGRqpmvd5Q"/>
          <p:cNvPicPr/>
          <p:nvPr/>
        </p:nvPicPr>
        <p:blipFill>
          <a:blip r:embed="rId1"/>
          <a:stretch/>
        </p:blipFill>
        <p:spPr>
          <a:xfrm>
            <a:off x="2057400" y="2133720"/>
            <a:ext cx="4495680" cy="37465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629400" y="228600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garaje. Mi garaje es detrás de casa. Mi garaje es pequeñ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4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ra 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2209680"/>
            <a:ext cx="300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rtij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farmh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Tiene Caballo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has 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Graner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ba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Únic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u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omic Sans MS"/>
              </a:rPr>
              <a:t>Acogedor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: coz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7" descr="farmhouse"/>
          <p:cNvPicPr/>
          <p:nvPr/>
        </p:nvPicPr>
        <p:blipFill>
          <a:blip r:embed="rId1"/>
          <a:srcRect l="-809" t="0" r="0" b="26056"/>
          <a:stretch/>
        </p:blipFill>
        <p:spPr>
          <a:xfrm>
            <a:off x="2743200" y="3048120"/>
            <a:ext cx="6024600" cy="35924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1"/>
          <p:cNvSpPr/>
          <p:nvPr/>
        </p:nvSpPr>
        <p:spPr>
          <a:xfrm>
            <a:off x="990720" y="320040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 casa es cortijo. Es tiene caballos y un granero. Mi casa magnific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63360" y="0"/>
            <a:ext cx="18003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3672000" y="2495520"/>
            <a:ext cx="1800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4" descr="spanish powerpoint"/>
          <p:cNvPicPr/>
          <p:nvPr/>
        </p:nvPicPr>
        <p:blipFill>
          <a:blip r:embed="rId1"/>
          <a:srcRect l="1220" t="3394" r="1760" b="3394"/>
          <a:stretch/>
        </p:blipFill>
        <p:spPr>
          <a:xfrm>
            <a:off x="0" y="2666880"/>
            <a:ext cx="6095880" cy="4191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Text Box 15"/>
          <p:cNvSpPr/>
          <p:nvPr/>
        </p:nvSpPr>
        <p:spPr>
          <a:xfrm>
            <a:off x="6477120" y="26668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 cuarto es imperstionate. E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iene hores en las paredes. Es muy origi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4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ANd9GcSHlKqpgWtxHzdahaYDmZTacPE03Nf4UbbnSI5Hlrp9BV8-kiE9og"/>
          <p:cNvPicPr/>
          <p:nvPr/>
        </p:nvPicPr>
        <p:blipFill>
          <a:blip r:embed="rId1"/>
          <a:stretch/>
        </p:blipFill>
        <p:spPr>
          <a:xfrm>
            <a:off x="2362320" y="1447920"/>
            <a:ext cx="5867280" cy="4417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04920" y="3886200"/>
            <a:ext cx="19047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cocina. Mi cocina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único, y grande. Mi cocin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blanc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4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farmhouse dining room"/>
          <p:cNvPicPr/>
          <p:nvPr/>
        </p:nvPicPr>
        <p:blipFill>
          <a:blip r:embed="rId1"/>
          <a:stretch/>
        </p:blipFill>
        <p:spPr>
          <a:xfrm>
            <a:off x="380880" y="190512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4267080" y="2133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comedor. Es simple y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cogedor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6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P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57200" y="2743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patio. Mi patio muy bonita y lojos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ANd9GcRnADKATfUSiDr-U1nBpb8WMTAGe_WpjUP5UAGNvDeory0yJkki"/>
          <p:cNvPicPr/>
          <p:nvPr/>
        </p:nvPicPr>
        <p:blipFill>
          <a:blip r:embed="rId1"/>
          <a:stretch/>
        </p:blipFill>
        <p:spPr>
          <a:xfrm>
            <a:off x="3124080" y="2133720"/>
            <a:ext cx="52578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Ba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4343400" y="4191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baño. Es muy simple y modern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2" descr="https://encrypted-tbn0.google.com/images?q=tbn:ANd9GcSzJrkbQwVb5Gc-OFqCAh4JOOXVA6lFVGDRpLACPRtlUVyQJXKT"/>
          <p:cNvPicPr/>
          <p:nvPr/>
        </p:nvPicPr>
        <p:blipFill>
          <a:blip r:embed="rId1"/>
          <a:stretch/>
        </p:blipFill>
        <p:spPr>
          <a:xfrm>
            <a:off x="0" y="1719360"/>
            <a:ext cx="380052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" descr="https://encrypted-tbn3.google.com/images?q=tbn:ANd9GcT2ssM_jR_klDXDT839ia9SR_aadVdTPS0zP78yE1HPh8dlK51S"/>
          <p:cNvPicPr/>
          <p:nvPr/>
        </p:nvPicPr>
        <p:blipFill>
          <a:blip r:embed="rId1"/>
          <a:stretch/>
        </p:blipFill>
        <p:spPr>
          <a:xfrm>
            <a:off x="304920" y="1219320"/>
            <a:ext cx="5422680" cy="4249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5867280" y="4495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sala. Mi sala es bonita y impresion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" descr="https://encrypted-tbn1.google.com/images?q=tbn:ANd9GcRIDMZBnd9fWMhTilm4zLBinUwe8rXjgZniqR0HvrQKGIZGOjNn"/>
          <p:cNvPicPr/>
          <p:nvPr/>
        </p:nvPicPr>
        <p:blipFill>
          <a:blip r:embed="rId1"/>
          <a:stretch/>
        </p:blipFill>
        <p:spPr>
          <a:xfrm>
            <a:off x="0" y="3362400"/>
            <a:ext cx="4832280" cy="3495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4952880" y="5334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 mi jardin. Mi jardin tiene caballos. Mi jardin gran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10Z</dcterms:created>
  <dc:creator>yadavtar</dc:creator>
  <dc:description/>
  <dc:language>en-US</dc:language>
  <cp:lastModifiedBy>yadavtar</cp:lastModifiedBy>
  <dcterms:modified xsi:type="dcterms:W3CDTF">2012-04-10T15:52:29Z</dcterms:modified>
  <cp:revision>26</cp:revision>
  <dc:subject/>
  <dc:title>La Casa</dc:title>
</cp:coreProperties>
</file>